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BD4-3C48-4225-ABE4-306A0119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19D-D6AA-49A4-AA14-E55267C7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FE8-A8EC-4478-81A1-6D9AF3F7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E2F-AE74-42A9-BDC2-377F7AE9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9C9-191D-4E60-952C-1FAD879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BF0-DC68-4321-B06B-81CE24D2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346-2BBE-41C2-AF03-9090C420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4E5-DFEC-4379-906C-1B45F860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220-D181-45D6-84A2-21D1CA24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AC9-38FC-4831-90C9-8724623E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B20-EF5F-4131-B564-AFF4E65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8DC-57A6-4308-B352-87707EB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45E-687C-47F7-B201-464EF1B7F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milan.org/teachers/kwheatley/pictures/WHII/slaves/TheJimCrowLaws-Front.jpg&amp;imgrefurl=http://www.asmilan.org/teachers/kwheatley/worldhistoryii.html&amp;h=600&amp;w=452&amp;sz=106&amp;tbnid=Bj1ixkyANUIeOM:&amp;tbnh=133&amp;tbnw=100&amp;hl=en&amp;start=19&amp;prev=/images%3Fq%3Djim%2Bcrow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stetsonkennedy.com/jim_crow_guide/images/water_fountain.jpg&amp;imgrefurl=http://www.stetsonkennedy.com/jim_crow_guide/intro.htm&amp;h=206&amp;w=263&amp;sz=15&amp;tbnid=t1pRKRA3aHadMM:&amp;tbnh=83&amp;tbnw=107&amp;hl=en&amp;start=6&amp;prev=/images%3Fq%3Djim%2Bcrow%26svnum%3D10%26hl%3Den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americaslibrary.gov/assets/jb/progress/jb_progress_plessy_1_e.jpg&amp;imgrefurl=http://www.americaslibrary.gov/jb/progress/jb_progress_plessy_1_e.html&amp;h=351&amp;w=534&amp;sz=54&amp;tbnid=ibLBROJWxBxtvM:&amp;tbnh=84&amp;tbnw=129&amp;hl=en&amp;start=2&amp;prev=/images%3Fq%3Dplessy%2Bv.%2Bferguson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ulturequest.us/annstillman/plessy%2520pic2.jpg&amp;imgrefurl=http://www.culturequest.us/annstillman/Plessy%2520VS%2520F.html&amp;h=256&amp;w=386&amp;sz=12&amp;tbnid=nIjFRhwbgrfEYM:&amp;tbnh=78&amp;tbnw=119&amp;hl=en&amp;start=4&amp;prev=/images%3Fq%3Dplessy%2Bv.%2Bferguson%26svnum%3D10%26hl%3Den%26lr%3D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teachpol.tcnj.edu/amer_pol_hist/fi/000000db.jpg&amp;imgrefurl=http://teachpol.tcnj.edu/amer_pol_hist/fi/000000db.htm&amp;h=1250&amp;w=1011&amp;sz=573&amp;tbnid=27LPjXzvukfRlM:&amp;tbnh=150&amp;tbnw=121&amp;hl=en&amp;start=2&amp;prev=/images%3Fq%3Dbooker%2Bt%2Bwashington%26svnum%3D10%26hl%3Den%26lr%3D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cr.nps.gov/nr/travel/civilrights/buildings/idawell2.jpg&amp;imgrefurl=http://www.cr.nps.gov/nr/travel/civilrights/il2.htm&amp;h=316&amp;w=250&amp;sz=18&amp;tbnid=W8I09Yk68DQVOM:&amp;tbnh=113&amp;tbnw=89&amp;hl=en&amp;start=7&amp;prev=/images%3Fq%3DIda%2BB.%2BWells%26svnum%3D10%26hl%3Den%26lr%3D" TargetMode="External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57200"/>
            <a:ext cx="826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pter 13 - Reconstruction &amp; the New Sou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426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nd of the Old Sout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664280" y="20937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vil War ravaged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e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971800"/>
            <a:ext cx="28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nstru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743480" y="35416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building the former Confederate states &amp; reuniting the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4120" y="392256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mnesty – full pardon to most southerners &amp; a state can rejoin if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p vote in f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4800600"/>
            <a:ext cx="5334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ncoln dead, Johnson i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2062800" y="5257800"/>
            <a:ext cx="56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son lacked polit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easier on South – pardons for almost every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ed southerners to take charge of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use rights to free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39400" y="4176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5520" y="8380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Black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5943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gressional Reconstru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510560" y="232236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ates Vs. Rad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5960" y="2703600"/>
            <a:ext cx="68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adical Republicans = in favor of African American suff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addeus St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rederick Dou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reedmen’s Bur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862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Civil Rights Act of 18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ll people are citizens (Reinforced by the passa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Johnson keeps vetoing &amp; congress keeps overridi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5600" y="5105520"/>
            <a:ext cx="52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adical Republicans come to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ook to give Af. Am’s the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ress Vs. the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019920"/>
            <a:ext cx="7534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rew Johnson Impeached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1981080"/>
            <a:ext cx="609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urther Political Difficulti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617400" y="27432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cal Republicans begin losing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n trouble, nominate a war her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86400" y="2895480"/>
            <a:ext cx="2590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lysses S. Gran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657600"/>
            <a:ext cx="27957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ection of 1868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763920" y="4343400"/>
            <a:ext cx="44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vs. Horatio Sey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. American votes give Grant the victo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880" y="228600"/>
            <a:ext cx="718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construction Acts 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vided the former Confederacy into 5 military distr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ion army troops stationed in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es must ratify 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mendment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antee everyone the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9360" y="51814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15th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4920" y="380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frican American Activis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27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begin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 in 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50440" y="304812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Carpetba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calaw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Ku Klux K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228600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uthern Reactio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4038480"/>
            <a:ext cx="6734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hanges in Reconstru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588320" y="4761000"/>
            <a:ext cx="50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ic of 18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blicans los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crats win the Sen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redeemers “take back” thei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457200"/>
            <a:ext cx="40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ection of 187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988560" y="1295280"/>
            <a:ext cx="650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uel J. Tilden (Dem)  Vs.  Rutherford B. Hayes (R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lden wins pop. Vote, but electoral votes are challe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es wins by 1 electoral vote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es com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Compromise of 1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289548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What will happen without military protection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520" y="3657600"/>
            <a:ext cx="3809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New Sout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451520" y="4648320"/>
            <a:ext cx="545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ers unable to pay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c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-lie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Growth (factories, ironworks, RR, text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533520"/>
            <a:ext cx="53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Rise of Jim Crow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1526760" y="1371600"/>
            <a:ext cx="63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ts in charge of state legisl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laws that take away rights of Af. Am’s (Jim Crow La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8360" y="1981080"/>
            <a:ext cx="18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oll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Literacy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e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9320" y="3048120"/>
            <a:ext cx="33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essy v. Fergus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41760" y="3657600"/>
            <a:ext cx="39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but equal” is ok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violate the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4495680"/>
            <a:ext cx="5591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sponse to Jim Crow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2043720" y="5218200"/>
            <a:ext cx="54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Madame C. J. Walk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llion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Booker T. Washing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operation &amp; edu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Ida B. Wel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ti lynching socie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447920"/>
            <a:ext cx="2895480" cy="224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2133720"/>
            <a:ext cx="2971800" cy="193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3886200"/>
            <a:ext cx="3124080" cy="204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0880" y="3505320"/>
            <a:ext cx="2335320" cy="28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4114800"/>
            <a:ext cx="192096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276720" y="304920"/>
            <a:ext cx="3200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56:15Z</dcterms:created>
  <dc:creator>Nate and Babies</dc:creator>
  <dc:description/>
  <dc:language>en-US</dc:language>
  <cp:lastModifiedBy>nalbert</cp:lastModifiedBy>
  <dcterms:modified xsi:type="dcterms:W3CDTF">2006-03-14T14:01:49Z</dcterms:modified>
  <cp:revision>10</cp:revision>
  <dc:subject/>
  <dc:title>Slide 1</dc:title>
</cp:coreProperties>
</file>